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24.gif" ContentType="image/gif"/>
  <Override PartName="/ppt/media/image8.png" ContentType="image/png"/>
  <Override PartName="/ppt/media/image6.jpeg" ContentType="image/jpeg"/>
  <Override PartName="/ppt/media/image25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1A7-10C2-4834-B5B8-8E3EB1E4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2BB-E327-469B-B2EB-E34E053379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1D5B-2613-459B-801A-CFEFB38C6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028-E7BF-4DFA-8520-F5AF0B5394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673-EBC5-439D-9285-C0DA4339F8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2D83-2068-49F5-8A80-34FE860F9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1EDD-4425-48B2-9BFD-4A9FEF814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806D-EA5C-4DA2-B8B5-CACEA1E29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321E-CE25-4693-A9B5-67D66D4A32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770-54EF-4A77-850B-D24ABA0B5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AEA8-C4F3-469D-8524-6FE40C3C4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48CF-A5FE-4734-B85F-14C49A1710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E3D-5581-42DD-908C-FA33665F0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CE0-8DE5-4AA6-9F6D-1F8F58DE8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3BD-0B89-4E59-B18C-2003A45B2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67B1-81EA-477C-A14C-9AC9EC9B5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3FC-8C54-4CEE-95EE-EA10FEDCF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F622-F9CB-487F-AA13-0087F4A94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6EE8-F667-4285-94BA-335B45322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6AF-EA9F-4193-913E-8FBD6A8F2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2570-54EC-400E-9B51-48DBB9F9E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FE23-0C0B-4311-924B-5121FBA28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F35-D971-47A5-A197-0AE0C2DB9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4355-C626-4A78-87B9-BAAA4DC1D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7F28-DC36-41A3-B0E5-83FD53B78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5CA6-AB7B-49DC-BA02-A4D599158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994-6CE4-43E6-BF2D-4E3B7345F6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B8DB-64B4-4329-BE16-ED334B51E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5F9E-2F66-4EB0-B6C7-D737AFD46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809-E433-4404-BE0D-A84F414CD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A10-BC16-4453-98A6-7EA5CC595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C770-948C-40C3-9275-EB5E9F2B7B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5471-E3DC-45D5-A9FB-3A6AABE9A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376-8E4E-4146-99E8-9B0C32007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141-C5D7-4113-91FC-3E924DDF01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8C3-A8A7-4771-B797-C7183FFAB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505-7563-491A-8A12-F067EC5AE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D74-04A9-474F-A866-133E271B3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268-A91F-43A1-A3A9-490203570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DA39-B0CF-415E-A3E0-C8B77C7E9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D906-B6CA-4DA0-A588-FCA3D5CB39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7E46-5CE8-453A-A2AC-2AAB23ECC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4D9E-F259-489F-9184-519649154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F72-AC19-467D-9BE0-FD07191D1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DAF-7D6B-49D9-8EAD-85ED9539B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4DBA-E8B3-4169-BCA3-B411D840C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FF1-7D19-4D4E-BE62-CAE467953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C03-303F-49FC-9D55-203F0BD86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B22D-1D57-4E35-8972-27AA213E38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CB2-B4E0-4F27-A72E-20C1AEA45B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977-30FF-4664-8F33-6D084C540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4E2-AF12-4B02-A7B0-63A4D6ECC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363-590B-4278-9D6D-3053C27FD9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BD6-BEF6-4483-9EB2-AC5C664E7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6E13-D893-478C-9C8F-842E626DE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EB69-AFEB-497E-A19B-8D3581076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8A72-48AB-43FA-A27D-B187EB2DE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AF5-E428-40A5-A422-FEABA0C61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926E-0FE6-4516-8250-C39013D1F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7C4D-B634-41D0-A5A9-EF9B05B33B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5CF-2E4A-420B-A822-47FF6D7A9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922-936C-4D52-85B7-31A91353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13F-9671-4C31-B61B-8ABFC3E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397-924C-4BD0-9731-B00C1B3C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887-7F0B-40ED-B1DD-3A5B2D1B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75A8-246A-4D08-AF0F-6201AA72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5C75-5A86-484D-81D9-9F45B687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B89B-1476-477C-9D74-244CB4D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25D51-C169-455C-898A-95A047F8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3CAA5-8939-4672-9121-98470FC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F3D3-E284-4ABB-9A79-4B78D0B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1304-3005-453A-A2B3-4A2620C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B5D-81D8-4FAC-BC27-395FCDD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C9FE8-0D38-46BC-8FDA-569B0DE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9AA0A-8620-4FA2-BDE4-3CF93DF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30A70-4E83-44EA-BBE1-0964974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B883-FA71-46F5-98EE-B541441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E8D5E-159B-4395-8351-05C5DD4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13D-A4F2-4FD0-B628-5ED345F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553-A77A-4AF4-A504-D57AA30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FA5-250B-488D-8A8D-8C4C5E2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79F-BB0E-4B46-BC66-62117F63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387-5A6C-4747-8FED-A8CBFAB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138-D7DD-4C2D-9839-FB91F38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00F-416E-4E0A-A818-F173BAA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7E98-01E4-478C-8FBE-027288A22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6A2C-1E21-4592-B3D0-B0BE4B8BE3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orgia High School Graduation T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ience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cells organiz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issu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cell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tissue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 Syste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organ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is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organ system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homeosta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ost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ady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adjusting mechanism that helps to maintain your internal environ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transport materia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ffu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ovement of materials form a higher concentration to a lower concent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smos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ffusion of water through a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transport materia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the movement of materials that does not require energ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usion, osmosis, facilitated diff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s the use of energy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m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chemicals of lif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219320"/>
          <a:ext cx="8839080" cy="4743360"/>
        </p:xfrm>
        <a:graphic>
          <a:graphicData uri="http://schemas.openxmlformats.org/drawingml/2006/table">
            <a:tbl>
              <a:tblPr/>
              <a:tblGrid>
                <a:gridCol w="2666880"/>
                <a:gridCol w="1995480"/>
                <a:gridCol w="2292480"/>
                <a:gridCol w="1884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Bloc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hydr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sugar,st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-sacchar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p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butter, 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tty Acids &amp; glyce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meat, chee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,N,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ino Ac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ructure, growth &amp; rep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cleic Ac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DNA,R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,N,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cleot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tic Infor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4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divi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mitosis as cycle"/>
          <p:cNvPicPr/>
          <p:nvPr/>
        </p:nvPicPr>
        <p:blipFill>
          <a:blip r:embed="rId1"/>
          <a:stretch/>
        </p:blipFill>
        <p:spPr>
          <a:xfrm>
            <a:off x="2514600" y="1066680"/>
            <a:ext cx="4381560" cy="5257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divi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Meiosis"/>
          <p:cNvPicPr/>
          <p:nvPr/>
        </p:nvPicPr>
        <p:blipFill>
          <a:blip r:embed="rId1"/>
          <a:stretch/>
        </p:blipFill>
        <p:spPr>
          <a:xfrm>
            <a:off x="838080" y="1270080"/>
            <a:ext cx="7239240" cy="480672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re Does A Cell Get Energy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 cellular respiration, glucose is broken down to a form the cell can 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ra energy is stored in an ATP molecule (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enosine triphosphate)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otosynthe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photosynthesis"/>
          <p:cNvPicPr/>
          <p:nvPr/>
        </p:nvPicPr>
        <p:blipFill>
          <a:blip r:embed="rId1"/>
          <a:stretch/>
        </p:blipFill>
        <p:spPr>
          <a:xfrm>
            <a:off x="2514600" y="1600200"/>
            <a:ext cx="4397400" cy="45720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otosynthe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 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ccurs in chloropla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par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vin cycle (dark reactio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ontent is covered on the tes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cience test is comprised of five domai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lls &amp; Heredity (25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cology (17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ucture and Properties of matter (2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ergy Transformations (1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s, Waves, &amp; Electricity (1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1360" y="350640"/>
            <a:ext cx="76280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Respira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ocess of breaking down food molecules to release energ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ccurs in the mitochondri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erobic – requires oxyge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erobic – requires an absence of oxyge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DN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contains the blueprint for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otides are the building blo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a deoxyribose sugar,  phosphate group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b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nine - 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sine - Guan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DNA &amp; RNA Differ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oxyribos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stran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b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c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stran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DNA control Protein Synthesi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nscrip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copies the message from DNA in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a protein by translating the message on RNA into an amino acid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levels of organization of ecolog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group of 1 species living in the same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n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 group of interacting pop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osystem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the community and its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group of ecosystems with the same commun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osphe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 circle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53360"/>
            <a:ext cx="8837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  <a:ea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41200" y="665280"/>
            <a:ext cx="8661600" cy="58118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858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33720" y="3733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9528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es matter &amp; energy flow in an ecosyst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Chains – one path of energy fl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Webs – complex model that expresses all the possible feeding relationships in a commu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702" b="3898"/>
          <a:stretch/>
        </p:blipFill>
        <p:spPr>
          <a:xfrm>
            <a:off x="2362320" y="609480"/>
            <a:ext cx="4038480" cy="56390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yramid of energy, numbers, or bio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pyramid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4492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HSGT Chemist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log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S1. Students will investigate our current understanding of the ato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57200" y="1828800"/>
            <a:ext cx="8229600" cy="4618080"/>
            <a:chOff x="457200" y="1828800"/>
            <a:chExt cx="8229600" cy="4618080"/>
          </a:xfrm>
        </p:grpSpPr>
        <p:sp>
          <p:nvSpPr>
            <p:cNvPr id="152" name="Rectangle 4"/>
            <p:cNvSpPr/>
            <p:nvPr/>
          </p:nvSpPr>
          <p:spPr>
            <a:xfrm>
              <a:off x="66294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ocatio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45720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as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25146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harg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572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66294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Outside nucleus in electron clou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45720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0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5146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4572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lectr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66294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ucleu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45720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 amu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25146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eutral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4572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eutr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6294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ucleus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5720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 amu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25146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+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4572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rot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457200" y="18288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>
              <a:off x="457200" y="3657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22"/>
            <p:cNvSpPr/>
            <p:nvPr/>
          </p:nvSpPr>
          <p:spPr>
            <a:xfrm>
              <a:off x="457200" y="46483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23"/>
            <p:cNvSpPr/>
            <p:nvPr/>
          </p:nvSpPr>
          <p:spPr>
            <a:xfrm>
              <a:off x="457200" y="64468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24"/>
            <p:cNvSpPr/>
            <p:nvPr/>
          </p:nvSpPr>
          <p:spPr>
            <a:xfrm>
              <a:off x="457200" y="1828800"/>
              <a:ext cx="0" cy="4618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25146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45720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66294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8686800" y="1828800"/>
              <a:ext cx="0" cy="4618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4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’s Energy Lev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Bohr model there were distinct energy levels where electrons could ex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2 electr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8 then 18 after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vel gets 2 elec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bohr model"/>
          <p:cNvPicPr/>
          <p:nvPr/>
        </p:nvPicPr>
        <p:blipFill>
          <a:blip r:embed="rId1"/>
          <a:stretch/>
        </p:blipFill>
        <p:spPr>
          <a:xfrm>
            <a:off x="5410080" y="2112840"/>
            <a:ext cx="2870280" cy="2765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943600" y="60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488560" y="51055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lement is th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dern View of the Atom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92904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reg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us- protons and neu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cloud- region where you might find an elect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Electron CLoud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31906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number of  protons in an atom of a particular element is its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tomic numb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ach element has a different atomic numb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Cj02265640000[1]"/>
          <p:cNvPicPr/>
          <p:nvPr/>
        </p:nvPicPr>
        <p:blipFill>
          <a:blip r:embed="rId1"/>
          <a:stretch/>
        </p:blipFill>
        <p:spPr>
          <a:xfrm>
            <a:off x="5410080" y="76212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Cj02265060000[1]"/>
          <p:cNvPicPr/>
          <p:nvPr/>
        </p:nvPicPr>
        <p:blipFill>
          <a:blip r:embed="rId2"/>
          <a:stretch/>
        </p:blipFill>
        <p:spPr>
          <a:xfrm>
            <a:off x="5410080" y="3276720"/>
            <a:ext cx="3375000" cy="24098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tons and neutrons are responsible for most of the atomic mass of an atom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number of protons and neutrons in an atom are the mass number of that at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member to use the Periodic Table provided on the T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GA Periodic Table March 2005-1"/>
          <p:cNvPicPr/>
          <p:nvPr/>
        </p:nvPicPr>
        <p:blipFill>
          <a:blip r:embed="rId1"/>
          <a:stretch/>
        </p:blipFill>
        <p:spPr>
          <a:xfrm>
            <a:off x="762120" y="12952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295280" y="304920"/>
            <a:ext cx="26672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9____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8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.998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,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3"/>
          <p:cNvSpPr/>
          <p:nvPr/>
        </p:nvSpPr>
        <p:spPr>
          <a:xfrm flipH="1">
            <a:off x="2362320" y="838080"/>
            <a:ext cx="3504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4"/>
          <p:cNvSpPr/>
          <p:nvPr/>
        </p:nvSpPr>
        <p:spPr>
          <a:xfrm flipH="1">
            <a:off x="2819160" y="1828800"/>
            <a:ext cx="14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6"/>
          <p:cNvSpPr/>
          <p:nvPr/>
        </p:nvSpPr>
        <p:spPr>
          <a:xfrm flipH="1">
            <a:off x="3809520" y="358128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3200040" y="5275440"/>
            <a:ext cx="1219320" cy="58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019920" y="609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3434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080040" y="2703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ment 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158160" y="3240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42008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electrons per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ny given element, all nuclei have the same number of protons, but the number of neutrons may va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toms of the same element wit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fferent atomic ma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4" descr="isotopehydrogen"/>
          <p:cNvPicPr/>
          <p:nvPr/>
        </p:nvPicPr>
        <p:blipFill>
          <a:blip r:embed="rId1"/>
          <a:stretch/>
        </p:blipFill>
        <p:spPr>
          <a:xfrm>
            <a:off x="2971800" y="335268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S6.  Students will investigate the properties of solu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olution i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ene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 composed of a solute and a solv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lute is the dissolved substance in a solution.  There is less of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l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alt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g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lvent is the dissolving medium.  You have more of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alt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lute vs Concentra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organisms are made up of one or more cell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ell is the basic unit of organization of all organism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cells come from other cells all ready in existenc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turation of Solu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ductivity of Solu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ectroly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ubstance whose water solution conducts electr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nic compou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as NaC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odium chloride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ids and b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as HC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hydrochloric acid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(sodium hydrox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udents will compare and contrast the phases of matter as they relate to atomic and molecular motion.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457200" y="1752480"/>
            <a:ext cx="8686440" cy="4495680"/>
            <a:chOff x="457200" y="1752480"/>
            <a:chExt cx="8686440" cy="4495680"/>
          </a:xfrm>
        </p:grpSpPr>
        <p:grpSp>
          <p:nvGrpSpPr>
            <p:cNvPr id="218" name="Group 4"/>
            <p:cNvGrpSpPr/>
            <p:nvPr/>
          </p:nvGrpSpPr>
          <p:grpSpPr>
            <a:xfrm>
              <a:off x="462240" y="1759680"/>
              <a:ext cx="8674920" cy="4480200"/>
              <a:chOff x="462240" y="1759680"/>
              <a:chExt cx="8674920" cy="4480200"/>
            </a:xfrm>
          </p:grpSpPr>
          <p:grpSp>
            <p:nvGrpSpPr>
              <p:cNvPr id="219" name="Group 5"/>
              <p:cNvGrpSpPr/>
              <p:nvPr/>
            </p:nvGrpSpPr>
            <p:grpSpPr>
              <a:xfrm>
                <a:off x="462240" y="1759680"/>
                <a:ext cx="933840" cy="1048320"/>
                <a:chOff x="462240" y="1759680"/>
                <a:chExt cx="933840" cy="1048320"/>
              </a:xfrm>
            </p:grpSpPr>
            <p:sp>
              <p:nvSpPr>
                <p:cNvPr id="220" name="Rectangle 6"/>
                <p:cNvSpPr/>
                <p:nvPr/>
              </p:nvSpPr>
              <p:spPr>
                <a:xfrm>
                  <a:off x="539280" y="175968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t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Rectangle 7"/>
                <p:cNvSpPr/>
                <p:nvPr/>
              </p:nvSpPr>
              <p:spPr>
                <a:xfrm>
                  <a:off x="462240" y="175968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2" name="Group 8"/>
              <p:cNvGrpSpPr/>
              <p:nvPr/>
            </p:nvGrpSpPr>
            <p:grpSpPr>
              <a:xfrm>
                <a:off x="1396440" y="1759680"/>
                <a:ext cx="2401920" cy="1048320"/>
                <a:chOff x="1396440" y="1759680"/>
                <a:chExt cx="2401920" cy="1048320"/>
              </a:xfrm>
            </p:grpSpPr>
            <p:sp>
              <p:nvSpPr>
                <p:cNvPr id="223" name="Rectangle 9"/>
                <p:cNvSpPr/>
                <p:nvPr/>
              </p:nvSpPr>
              <p:spPr>
                <a:xfrm>
                  <a:off x="1473480" y="175968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ovemen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10"/>
                <p:cNvSpPr/>
                <p:nvPr/>
              </p:nvSpPr>
              <p:spPr>
                <a:xfrm>
                  <a:off x="1396440" y="175968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Group 11"/>
              <p:cNvGrpSpPr/>
              <p:nvPr/>
            </p:nvGrpSpPr>
            <p:grpSpPr>
              <a:xfrm>
                <a:off x="3798720" y="1759680"/>
                <a:ext cx="1883160" cy="1048320"/>
                <a:chOff x="3798720" y="1759680"/>
                <a:chExt cx="1883160" cy="1048320"/>
              </a:xfrm>
            </p:grpSpPr>
            <p:sp>
              <p:nvSpPr>
                <p:cNvPr id="226" name="Rectangle 12"/>
                <p:cNvSpPr/>
                <p:nvPr/>
              </p:nvSpPr>
              <p:spPr>
                <a:xfrm>
                  <a:off x="3875760" y="175968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oximity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13"/>
                <p:cNvSpPr/>
                <p:nvPr/>
              </p:nvSpPr>
              <p:spPr>
                <a:xfrm>
                  <a:off x="3798720" y="175968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8" name="Group 14"/>
              <p:cNvGrpSpPr/>
              <p:nvPr/>
            </p:nvGrpSpPr>
            <p:grpSpPr>
              <a:xfrm>
                <a:off x="5682600" y="1759680"/>
                <a:ext cx="3454560" cy="1048320"/>
                <a:chOff x="5682600" y="1759680"/>
                <a:chExt cx="3454560" cy="1048320"/>
              </a:xfrm>
            </p:grpSpPr>
            <p:sp>
              <p:nvSpPr>
                <p:cNvPr id="229" name="Rectangle 15"/>
                <p:cNvSpPr/>
                <p:nvPr/>
              </p:nvSpPr>
              <p:spPr>
                <a:xfrm>
                  <a:off x="5759640" y="175968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hape/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Rectangle 16"/>
                <p:cNvSpPr/>
                <p:nvPr/>
              </p:nvSpPr>
              <p:spPr>
                <a:xfrm>
                  <a:off x="5682600" y="175968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1" name="Group 17"/>
              <p:cNvGrpSpPr/>
              <p:nvPr/>
            </p:nvGrpSpPr>
            <p:grpSpPr>
              <a:xfrm>
                <a:off x="462240" y="2808360"/>
                <a:ext cx="933840" cy="1333800"/>
                <a:chOff x="462240" y="2808360"/>
                <a:chExt cx="933840" cy="1333800"/>
              </a:xfrm>
            </p:grpSpPr>
            <p:sp>
              <p:nvSpPr>
                <p:cNvPr id="232" name="Rectangle 18"/>
                <p:cNvSpPr/>
                <p:nvPr/>
              </p:nvSpPr>
              <p:spPr>
                <a:xfrm>
                  <a:off x="539280" y="2808360"/>
                  <a:ext cx="77976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olid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Rectangle 19"/>
                <p:cNvSpPr/>
                <p:nvPr/>
              </p:nvSpPr>
              <p:spPr>
                <a:xfrm>
                  <a:off x="462240" y="2808360"/>
                  <a:ext cx="93384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4" name="Group 20"/>
              <p:cNvGrpSpPr/>
              <p:nvPr/>
            </p:nvGrpSpPr>
            <p:grpSpPr>
              <a:xfrm>
                <a:off x="1396440" y="2808360"/>
                <a:ext cx="2401920" cy="1333800"/>
                <a:chOff x="1396440" y="2808360"/>
                <a:chExt cx="2401920" cy="1333800"/>
              </a:xfrm>
            </p:grpSpPr>
            <p:sp>
              <p:nvSpPr>
                <p:cNvPr id="235" name="Rectangle 21"/>
                <p:cNvSpPr/>
                <p:nvPr/>
              </p:nvSpPr>
              <p:spPr>
                <a:xfrm>
                  <a:off x="1473480" y="2808360"/>
                  <a:ext cx="22474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little; slow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22"/>
                <p:cNvSpPr/>
                <p:nvPr/>
              </p:nvSpPr>
              <p:spPr>
                <a:xfrm>
                  <a:off x="1396440" y="2808360"/>
                  <a:ext cx="240192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Group 23"/>
              <p:cNvGrpSpPr/>
              <p:nvPr/>
            </p:nvGrpSpPr>
            <p:grpSpPr>
              <a:xfrm>
                <a:off x="3798720" y="2808360"/>
                <a:ext cx="1883160" cy="1333800"/>
                <a:chOff x="3798720" y="2808360"/>
                <a:chExt cx="1883160" cy="1333800"/>
              </a:xfrm>
            </p:grpSpPr>
            <p:sp>
              <p:nvSpPr>
                <p:cNvPr id="238" name="Rectangle 24"/>
                <p:cNvSpPr/>
                <p:nvPr/>
              </p:nvSpPr>
              <p:spPr>
                <a:xfrm>
                  <a:off x="3875760" y="2808360"/>
                  <a:ext cx="17290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ightly packed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25"/>
                <p:cNvSpPr/>
                <p:nvPr/>
              </p:nvSpPr>
              <p:spPr>
                <a:xfrm>
                  <a:off x="3798720" y="2808360"/>
                  <a:ext cx="188316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0" name="Group 26"/>
              <p:cNvGrpSpPr/>
              <p:nvPr/>
            </p:nvGrpSpPr>
            <p:grpSpPr>
              <a:xfrm>
                <a:off x="5682600" y="2808360"/>
                <a:ext cx="3454560" cy="1333800"/>
                <a:chOff x="5682600" y="2808360"/>
                <a:chExt cx="3454560" cy="1333800"/>
              </a:xfrm>
            </p:grpSpPr>
            <p:sp>
              <p:nvSpPr>
                <p:cNvPr id="241" name="Rectangle 27"/>
                <p:cNvSpPr/>
                <p:nvPr/>
              </p:nvSpPr>
              <p:spPr>
                <a:xfrm>
                  <a:off x="5759640" y="2808360"/>
                  <a:ext cx="33004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efinite shape and 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2" name="Rectangle 28"/>
                <p:cNvSpPr/>
                <p:nvPr/>
              </p:nvSpPr>
              <p:spPr>
                <a:xfrm>
                  <a:off x="5682600" y="2808360"/>
                  <a:ext cx="345456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3" name="Group 29"/>
              <p:cNvGrpSpPr/>
              <p:nvPr/>
            </p:nvGrpSpPr>
            <p:grpSpPr>
              <a:xfrm>
                <a:off x="462240" y="4142880"/>
                <a:ext cx="933840" cy="1048320"/>
                <a:chOff x="462240" y="4142880"/>
                <a:chExt cx="933840" cy="1048320"/>
              </a:xfrm>
            </p:grpSpPr>
            <p:sp>
              <p:nvSpPr>
                <p:cNvPr id="244" name="Rectangle 30"/>
                <p:cNvSpPr/>
                <p:nvPr/>
              </p:nvSpPr>
              <p:spPr>
                <a:xfrm>
                  <a:off x="539280" y="414288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iquid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5" name="Rectangle 31"/>
                <p:cNvSpPr/>
                <p:nvPr/>
              </p:nvSpPr>
              <p:spPr>
                <a:xfrm>
                  <a:off x="462240" y="414288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6" name="Group 32"/>
              <p:cNvGrpSpPr/>
              <p:nvPr/>
            </p:nvGrpSpPr>
            <p:grpSpPr>
              <a:xfrm>
                <a:off x="1396440" y="4142880"/>
                <a:ext cx="2401920" cy="1048320"/>
                <a:chOff x="1396440" y="4142880"/>
                <a:chExt cx="2401920" cy="1048320"/>
              </a:xfrm>
            </p:grpSpPr>
            <p:sp>
              <p:nvSpPr>
                <p:cNvPr id="247" name="Rectangle 33"/>
                <p:cNvSpPr/>
                <p:nvPr/>
              </p:nvSpPr>
              <p:spPr>
                <a:xfrm>
                  <a:off x="1473480" y="414288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ree to move; fast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8" name="Rectangle 34"/>
                <p:cNvSpPr/>
                <p:nvPr/>
              </p:nvSpPr>
              <p:spPr>
                <a:xfrm>
                  <a:off x="1396440" y="414288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9" name="Group 35"/>
              <p:cNvGrpSpPr/>
              <p:nvPr/>
            </p:nvGrpSpPr>
            <p:grpSpPr>
              <a:xfrm>
                <a:off x="3798720" y="4142880"/>
                <a:ext cx="1883160" cy="1048320"/>
                <a:chOff x="3798720" y="4142880"/>
                <a:chExt cx="1883160" cy="1048320"/>
              </a:xfrm>
            </p:grpSpPr>
            <p:sp>
              <p:nvSpPr>
                <p:cNvPr id="250" name="Rectangle 36"/>
                <p:cNvSpPr/>
                <p:nvPr/>
              </p:nvSpPr>
              <p:spPr>
                <a:xfrm>
                  <a:off x="3875760" y="414288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lose togeth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Rectangle 37"/>
                <p:cNvSpPr/>
                <p:nvPr/>
              </p:nvSpPr>
              <p:spPr>
                <a:xfrm>
                  <a:off x="3798720" y="414288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Group 38"/>
              <p:cNvGrpSpPr/>
              <p:nvPr/>
            </p:nvGrpSpPr>
            <p:grpSpPr>
              <a:xfrm>
                <a:off x="5682600" y="4142880"/>
                <a:ext cx="3454560" cy="1048320"/>
                <a:chOff x="5682600" y="4142880"/>
                <a:chExt cx="3454560" cy="1048320"/>
              </a:xfrm>
            </p:grpSpPr>
            <p:sp>
              <p:nvSpPr>
                <p:cNvPr id="253" name="Rectangle 39"/>
                <p:cNvSpPr/>
                <p:nvPr/>
              </p:nvSpPr>
              <p:spPr>
                <a:xfrm>
                  <a:off x="5759640" y="414288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o definite shape; definite 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Rectangle 40"/>
                <p:cNvSpPr/>
                <p:nvPr/>
              </p:nvSpPr>
              <p:spPr>
                <a:xfrm>
                  <a:off x="5682600" y="414288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41"/>
              <p:cNvGrpSpPr/>
              <p:nvPr/>
            </p:nvGrpSpPr>
            <p:grpSpPr>
              <a:xfrm>
                <a:off x="462240" y="5191560"/>
                <a:ext cx="933840" cy="1048320"/>
                <a:chOff x="462240" y="5191560"/>
                <a:chExt cx="933840" cy="1048320"/>
              </a:xfrm>
            </p:grpSpPr>
            <p:sp>
              <p:nvSpPr>
                <p:cNvPr id="256" name="Rectangle 42"/>
                <p:cNvSpPr/>
                <p:nvPr/>
              </p:nvSpPr>
              <p:spPr>
                <a:xfrm>
                  <a:off x="539280" y="519156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as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7" name="Rectangle 43"/>
                <p:cNvSpPr/>
                <p:nvPr/>
              </p:nvSpPr>
              <p:spPr>
                <a:xfrm>
                  <a:off x="462240" y="519156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8" name="Group 44"/>
              <p:cNvGrpSpPr/>
              <p:nvPr/>
            </p:nvGrpSpPr>
            <p:grpSpPr>
              <a:xfrm>
                <a:off x="1396440" y="5191560"/>
                <a:ext cx="2401920" cy="1048320"/>
                <a:chOff x="1396440" y="5191560"/>
                <a:chExt cx="2401920" cy="1048320"/>
              </a:xfrm>
            </p:grpSpPr>
            <p:sp>
              <p:nvSpPr>
                <p:cNvPr id="259" name="Rectangle 45"/>
                <p:cNvSpPr/>
                <p:nvPr/>
              </p:nvSpPr>
              <p:spPr>
                <a:xfrm>
                  <a:off x="1473480" y="519156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fas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46"/>
                <p:cNvSpPr/>
                <p:nvPr/>
              </p:nvSpPr>
              <p:spPr>
                <a:xfrm>
                  <a:off x="1396440" y="519156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47"/>
              <p:cNvGrpSpPr/>
              <p:nvPr/>
            </p:nvGrpSpPr>
            <p:grpSpPr>
              <a:xfrm>
                <a:off x="3798720" y="5191560"/>
                <a:ext cx="1883160" cy="1048320"/>
                <a:chOff x="3798720" y="5191560"/>
                <a:chExt cx="1883160" cy="1048320"/>
              </a:xfrm>
            </p:grpSpPr>
            <p:sp>
              <p:nvSpPr>
                <p:cNvPr id="262" name="Rectangle 48"/>
                <p:cNvSpPr/>
                <p:nvPr/>
              </p:nvSpPr>
              <p:spPr>
                <a:xfrm>
                  <a:off x="3875760" y="519156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far apar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49"/>
                <p:cNvSpPr/>
                <p:nvPr/>
              </p:nvSpPr>
              <p:spPr>
                <a:xfrm>
                  <a:off x="3798720" y="519156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4" name="Group 50"/>
              <p:cNvGrpSpPr/>
              <p:nvPr/>
            </p:nvGrpSpPr>
            <p:grpSpPr>
              <a:xfrm>
                <a:off x="5682600" y="5191560"/>
                <a:ext cx="3454560" cy="1048320"/>
                <a:chOff x="5682600" y="5191560"/>
                <a:chExt cx="3454560" cy="1048320"/>
              </a:xfrm>
            </p:grpSpPr>
            <p:sp>
              <p:nvSpPr>
                <p:cNvPr id="265" name="Rectangle 51"/>
                <p:cNvSpPr/>
                <p:nvPr/>
              </p:nvSpPr>
              <p:spPr>
                <a:xfrm>
                  <a:off x="5759640" y="519156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o definite shape; fills contain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Rectangle 52"/>
                <p:cNvSpPr/>
                <p:nvPr/>
              </p:nvSpPr>
              <p:spPr>
                <a:xfrm>
                  <a:off x="5682600" y="519156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7" name="Rectangle 53"/>
            <p:cNvSpPr/>
            <p:nvPr/>
          </p:nvSpPr>
          <p:spPr>
            <a:xfrm>
              <a:off x="457200" y="1752480"/>
              <a:ext cx="868644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4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       Liquid    G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3" descr="Matterstatesof matter"/>
          <p:cNvPicPr/>
          <p:nvPr/>
        </p:nvPicPr>
        <p:blipFill>
          <a:blip r:embed="rId1"/>
          <a:srcRect l="0" t="4823" r="0" b="0"/>
          <a:stretch/>
        </p:blipFill>
        <p:spPr>
          <a:xfrm>
            <a:off x="1447920" y="1752480"/>
            <a:ext cx="6248160" cy="4445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ma-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tate of ma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s consist of freely moving charged particles, i.e., electrons and 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ning creates a jagged column of plas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n electric current is passed through neon gas, it produces both plasma and ligh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lain the process of half-life as related to radioactive decay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3296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it takes for half of a radioactive element to decay is its half-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4" descr="2005 half life"/>
          <p:cNvPicPr/>
          <p:nvPr/>
        </p:nvPicPr>
        <p:blipFill>
          <a:blip r:embed="rId1"/>
          <a:stretch/>
        </p:blipFill>
        <p:spPr>
          <a:xfrm>
            <a:off x="1828800" y="2666880"/>
            <a:ext cx="5715000" cy="39290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s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lo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covered in a certain amount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oci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distance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ele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e at which velocity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leration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final velocity – initial veloc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ush or pu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d in New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bject at rest and an object moving at a constant velocity is being acted upon by a net force o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types of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ukaryotic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 nucleus and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, animals, protists, and fungi  are eukary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karyotic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a nucleus and membrane bound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ton’s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Law of Mo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object in motion will stay in motion and an object at rest will stay at rest unless acted upon by an unbalanced fo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ert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eleration due to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Earth, all objects fall with a constant acceleration of 9.80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absence of air resi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 other words, a falling object’s velocity increases by 9.8 m/s each second it fall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ss vs. W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—the amount of matter in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—the force on a body due to the gravitational attraction of another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ight changes based on location, mass does no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and Po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= Force x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Newton-meters or Jo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Work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Wa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disturbance that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nsmits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energy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ough a medium or empty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—the number of events (waves, vibrations, oscillations) p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ve 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—the distance between a part of a wave to where the wave begins to repeat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4" descr="wave_crest"/>
          <p:cNvPicPr/>
          <p:nvPr/>
        </p:nvPicPr>
        <p:blipFill>
          <a:blip r:embed="rId1"/>
          <a:stretch/>
        </p:blipFill>
        <p:spPr>
          <a:xfrm>
            <a:off x="2743200" y="3505320"/>
            <a:ext cx="4343400" cy="29574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 waves do not require a medi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4" descr="electromag_spectrum"/>
          <p:cNvPicPr/>
          <p:nvPr/>
        </p:nvPicPr>
        <p:blipFill>
          <a:blip r:embed="rId1"/>
          <a:stretch/>
        </p:blipFill>
        <p:spPr>
          <a:xfrm>
            <a:off x="304920" y="1743120"/>
            <a:ext cx="830556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chanical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 a med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nd is an example of a mechanical w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haviors of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ion—wave bounces off barr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raction—wave changes direction as it moves from one medium to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raction—the bending of a wave around a barr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5" descr="reflection"/>
          <p:cNvPicPr/>
          <p:nvPr/>
        </p:nvPicPr>
        <p:blipFill>
          <a:blip r:embed="rId1"/>
          <a:stretch/>
        </p:blipFill>
        <p:spPr>
          <a:xfrm>
            <a:off x="5257800" y="1143000"/>
            <a:ext cx="3505320" cy="1581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171103077"/>
          <p:cNvPicPr/>
          <p:nvPr/>
        </p:nvPicPr>
        <p:blipFill>
          <a:blip r:embed="rId2"/>
          <a:stretch/>
        </p:blipFill>
        <p:spPr>
          <a:xfrm>
            <a:off x="5257800" y="2895480"/>
            <a:ext cx="2867040" cy="1838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Diffraction-Water-Waves"/>
          <p:cNvPicPr/>
          <p:nvPr/>
        </p:nvPicPr>
        <p:blipFill>
          <a:blip r:embed="rId3"/>
          <a:stretch/>
        </p:blipFill>
        <p:spPr>
          <a:xfrm>
            <a:off x="5334120" y="5105520"/>
            <a:ext cx="2819160" cy="142236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increase the strength of an electromagnet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coi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bat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4" descr="electromagnet"/>
          <p:cNvPicPr/>
          <p:nvPr/>
        </p:nvPicPr>
        <p:blipFill>
          <a:blip r:embed="rId1"/>
          <a:stretch/>
        </p:blipFill>
        <p:spPr>
          <a:xfrm>
            <a:off x="1600200" y="380880"/>
            <a:ext cx="5105520" cy="4130640"/>
          </a:xfrm>
          <a:prstGeom prst="rect">
            <a:avLst/>
          </a:prstGeom>
          <a:ln w="0">
            <a:noFill/>
          </a:ln>
        </p:spPr>
      </p:pic>
      <p:sp>
        <p:nvSpPr>
          <p:cNvPr id="307" name="Line 6"/>
          <p:cNvSpPr/>
          <p:nvPr/>
        </p:nvSpPr>
        <p:spPr>
          <a:xfrm flipV="1">
            <a:off x="5562720" y="388620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parts of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passage of materials into and out of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ontrols cell functions; DNA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cleolus –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duces ribos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energ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bos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protein 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cuo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stor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ysos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diges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gnetic fiel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764240" y="2652480"/>
            <a:ext cx="348912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netic field i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tronge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lines ar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ose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4" descr="magnetic field"/>
          <p:cNvPicPr/>
          <p:nvPr/>
        </p:nvPicPr>
        <p:blipFill>
          <a:blip r:embed="rId1"/>
          <a:stretch/>
        </p:blipFill>
        <p:spPr>
          <a:xfrm>
            <a:off x="609480" y="2590920"/>
            <a:ext cx="3867120" cy="31892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parts of cells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ndoplasmic reticulum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hemical synthesi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lgi apparatus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ackages proteins for secre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ll wall (plants only)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igid outer wall; nonliv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loroplasts (plants only)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photo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ntrioles (animals only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ell divis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e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animalcell2D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lantcell2d"/>
          <p:cNvPicPr/>
          <p:nvPr/>
        </p:nvPicPr>
        <p:blipFill>
          <a:blip r:embed="rId1"/>
          <a:stretch/>
        </p:blipFill>
        <p:spPr>
          <a:xfrm>
            <a:off x="685800" y="244440"/>
            <a:ext cx="7848720" cy="627696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1:41:24Z</dcterms:created>
  <dc:creator>e198600431</dc:creator>
  <dc:description/>
  <dc:language>en-US</dc:language>
  <cp:lastModifiedBy>vci</cp:lastModifiedBy>
  <dcterms:modified xsi:type="dcterms:W3CDTF">2012-03-14T11:53:30Z</dcterms:modified>
  <cp:revision>16</cp:revision>
  <dc:subject/>
  <dc:title>Georgia High School Graduation Test</dc:title>
</cp:coreProperties>
</file>